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769-21D1-4E46-8542-28BE749E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6CB-7EC2-41BB-AE3F-C1EA87D1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C3E-EE96-4543-8E4F-6ED7A25E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1EA-B28B-4C9E-8BCA-EA08B1A9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F99-ADF0-446A-BC6A-EA8B9FAE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E91A-91FE-4E5E-AF9E-E0DB2D4E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929-80C2-48B9-84AD-2D5AA1C4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751-571A-4548-8C13-1BC0B743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A8B-7554-49A1-A597-0A42EDDA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0557-EAAC-44D4-8D72-BAC2A11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C7E-C34B-4D07-9670-56DC919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09B-B622-4284-A02C-017591FA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7F1-5033-467B-B36D-C1A9FD5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5A2-41B9-4385-A5B7-7C3D979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02E-D90B-4CD7-879E-9405D7A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FB2-8A6C-4E0E-BE51-0FB208DC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4C0E-E990-4EFC-94E1-E5E9E301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76E7-454A-40ED-B256-1D20F85A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6DF9-F17D-4647-8345-16E756C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95BC-0598-4D51-8119-A488CC57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C08C-2B52-4BFE-B8AA-1CAA154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C760-9279-47A7-BB28-C943FA0E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DCC-A75A-44D5-8134-1281027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5AD4-F0F8-43D3-AE87-634CAEBB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1323-6E21-466E-9C54-127F6C1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1074-C707-4390-BC91-E917511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7483-F830-4925-99C2-FC46851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82FD-A019-401F-820F-9A8E0FF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7EE9-4044-4B3E-87A1-4BA0DE96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685E-5D6B-4A7E-B6E7-F566CC44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A06-975A-49D1-BF64-E026FC48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21A-5B2E-459E-ABA2-69E1435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74A-043E-4FE4-999B-2901113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133-3ACB-47FA-8CB5-C576BAF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8ED-6E10-4453-8EC9-64F2CD82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9B4-6B27-473C-A03D-229CAC4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757F-68EB-40B3-8BA7-7DF4CE303D4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966-34CC-450F-A1FA-289702E9DDDC}" type="slidenum">
              <a:rPr b="0" lang="pt-P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D97D-A978-4FFC-AC00-81D30F655838}" type="slidenum">
              <a:rPr b="0" lang="pt-P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Arial"/>
              </a:rPr>
              <a:t>A Dêixi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ângulo 3"/>
          <p:cNvSpPr/>
          <p:nvPr/>
        </p:nvSpPr>
        <p:spPr>
          <a:xfrm>
            <a:off x="3933000" y="278280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uel Vieira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397160"/>
            <a:ext cx="758988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3)deixis temporal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– regista o momento da enunciação [</a:t>
            </a: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agor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], e o que ocorre em simultâneo com ela, o que ocorreu </a:t>
            </a: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ant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dela e o que o enunciador pensa que acontecerá </a:t>
            </a: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depoi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bruxa"/>
          <p:cNvPicPr/>
          <p:nvPr/>
        </p:nvPicPr>
        <p:blipFill>
          <a:blip r:embed="rId1"/>
          <a:stretch/>
        </p:blipFill>
        <p:spPr>
          <a:xfrm>
            <a:off x="988920" y="3156120"/>
            <a:ext cx="2373480" cy="3240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>
            <a:off x="3333600" y="1235160"/>
            <a:ext cx="5469120" cy="2319120"/>
          </a:xfrm>
          <a:prstGeom prst="wedgeEllipseCallout">
            <a:avLst>
              <a:gd name="adj1" fmla="val -59055"/>
              <a:gd name="adj2" fmla="val 74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038480" y="1522440"/>
            <a:ext cx="46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9999"/>
                </a:solidFill>
                <a:latin typeface="Arial"/>
              </a:rPr>
              <a:t>Agora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estou ocupada, mas </a:t>
            </a:r>
            <a:r>
              <a:rPr b="1" lang="pt-PT" sz="3200" spc="-1" strike="noStrike">
                <a:solidFill>
                  <a:srgbClr val="009999"/>
                </a:solidFill>
                <a:latin typeface="Arial"/>
              </a:rPr>
              <a:t>amanhã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tratarei de ti, eh, eh, eh..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6" name="Imagem 7" descr="images_rato.jpg"/>
          <p:cNvPicPr/>
          <p:nvPr/>
        </p:nvPicPr>
        <p:blipFill>
          <a:blip r:embed="rId2"/>
          <a:stretch/>
        </p:blipFill>
        <p:spPr>
          <a:xfrm>
            <a:off x="6676920" y="4800600"/>
            <a:ext cx="1822680" cy="1608120"/>
          </a:xfrm>
          <a:prstGeom prst="rect">
            <a:avLst/>
          </a:prstGeom>
          <a:ln w="0">
            <a:noFill/>
          </a:ln>
        </p:spPr>
      </p:pic>
      <p:sp>
        <p:nvSpPr>
          <p:cNvPr id="177" name="CaixaDeTexto 6"/>
          <p:cNvSpPr/>
          <p:nvPr/>
        </p:nvSpPr>
        <p:spPr>
          <a:xfrm>
            <a:off x="795240" y="2079720"/>
            <a:ext cx="21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 Rounded MT Bold"/>
              </a:rPr>
              <a:t>23 de novembro de 2011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CaixaDeTexto 7"/>
          <p:cNvSpPr/>
          <p:nvPr/>
        </p:nvSpPr>
        <p:spPr>
          <a:xfrm>
            <a:off x="784080" y="2068560"/>
            <a:ext cx="18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 Rounded MT Bold"/>
              </a:rPr>
              <a:t>22 de novembro de 201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9560" y="1600200"/>
            <a:ext cx="71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4)Dêixis social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– formas de tratamento e etiqueta social. Integra-se nos </a:t>
            </a:r>
            <a:r>
              <a:rPr b="0" lang="pt-PT" sz="4000" spc="-1" strike="noStrike">
                <a:solidFill>
                  <a:srgbClr val="ff0000"/>
                </a:solidFill>
                <a:latin typeface="Arial"/>
              </a:rPr>
              <a:t>princípios reguladores da interacção discurs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 "/>
          <p:cNvPicPr/>
          <p:nvPr/>
        </p:nvPicPr>
        <p:blipFill>
          <a:blip r:embed="rId1"/>
          <a:srcRect l="0" t="10003" r="0" b="9738"/>
          <a:stretch/>
        </p:blipFill>
        <p:spPr>
          <a:xfrm>
            <a:off x="2871720" y="3041640"/>
            <a:ext cx="3830760" cy="3075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upo 8"/>
          <p:cNvGrpSpPr/>
          <p:nvPr/>
        </p:nvGrpSpPr>
        <p:grpSpPr>
          <a:xfrm>
            <a:off x="260280" y="1990800"/>
            <a:ext cx="2521080" cy="1512720"/>
            <a:chOff x="260280" y="1990800"/>
            <a:chExt cx="2521080" cy="1512720"/>
          </a:xfrm>
        </p:grpSpPr>
        <p:sp>
          <p:nvSpPr>
            <p:cNvPr id="184" name="AutoShape 8"/>
            <p:cNvSpPr/>
            <p:nvPr/>
          </p:nvSpPr>
          <p:spPr>
            <a:xfrm>
              <a:off x="260280" y="1990800"/>
              <a:ext cx="2521080" cy="1512720"/>
            </a:xfrm>
            <a:prstGeom prst="wedgeEllipseCallout">
              <a:avLst>
                <a:gd name="adj1" fmla="val 78499"/>
                <a:gd name="adj2" fmla="val 62861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464760" y="2241360"/>
              <a:ext cx="2087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Como está, </a:t>
              </a:r>
              <a:r>
                <a:rPr b="1" lang="pt-PT" sz="2800" spc="-1" strike="noStrike">
                  <a:solidFill>
                    <a:srgbClr val="009999"/>
                  </a:solidFill>
                  <a:latin typeface="Arial"/>
                </a:rPr>
                <a:t>o senhor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86" name="Grupo 9"/>
          <p:cNvGrpSpPr/>
          <p:nvPr/>
        </p:nvGrpSpPr>
        <p:grpSpPr>
          <a:xfrm>
            <a:off x="6429240" y="1415880"/>
            <a:ext cx="2573640" cy="1368720"/>
            <a:chOff x="6429240" y="1415880"/>
            <a:chExt cx="2573640" cy="1368720"/>
          </a:xfrm>
        </p:grpSpPr>
        <p:sp>
          <p:nvSpPr>
            <p:cNvPr id="187" name="AutoShape 7"/>
            <p:cNvSpPr/>
            <p:nvPr/>
          </p:nvSpPr>
          <p:spPr>
            <a:xfrm>
              <a:off x="6429240" y="1415880"/>
              <a:ext cx="2520000" cy="1368720"/>
            </a:xfrm>
            <a:prstGeom prst="wedgeEllipseCallout">
              <a:avLst>
                <a:gd name="adj1" fmla="val -62990"/>
                <a:gd name="adj2" fmla="val 114217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6625800" y="1587240"/>
              <a:ext cx="237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pt-PT" sz="2800" spc="-1" strike="noStrike">
                  <a:solidFill>
                    <a:srgbClr val="009999"/>
                  </a:solidFill>
                  <a:latin typeface="Arial"/>
                </a:rPr>
                <a:t>o senhor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, passou bem?</a:t>
              </a:r>
              <a:endParaRPr b="0" lang="en-US" sz="2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89" name="Text Box 4"/>
          <p:cNvSpPr/>
          <p:nvPr/>
        </p:nvSpPr>
        <p:spPr>
          <a:xfrm rot="19916400">
            <a:off x="3034440" y="1720440"/>
            <a:ext cx="34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cc"/>
                </a:solidFill>
                <a:latin typeface="Arial"/>
              </a:rPr>
              <a:t>Correcto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 "/>
          <p:cNvPicPr/>
          <p:nvPr/>
        </p:nvPicPr>
        <p:blipFill>
          <a:blip r:embed="rId1"/>
          <a:srcRect l="0" t="10003" r="0" b="9738"/>
          <a:stretch/>
        </p:blipFill>
        <p:spPr>
          <a:xfrm>
            <a:off x="2762280" y="3214800"/>
            <a:ext cx="386712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upo 8"/>
          <p:cNvGrpSpPr/>
          <p:nvPr/>
        </p:nvGrpSpPr>
        <p:grpSpPr>
          <a:xfrm>
            <a:off x="274680" y="1481040"/>
            <a:ext cx="3208320" cy="1616040"/>
            <a:chOff x="274680" y="1481040"/>
            <a:chExt cx="3208320" cy="1616040"/>
          </a:xfrm>
        </p:grpSpPr>
        <p:sp>
          <p:nvSpPr>
            <p:cNvPr id="193" name="AutoShape 7"/>
            <p:cNvSpPr/>
            <p:nvPr/>
          </p:nvSpPr>
          <p:spPr>
            <a:xfrm>
              <a:off x="274680" y="1481040"/>
              <a:ext cx="3208320" cy="1616040"/>
            </a:xfrm>
            <a:prstGeom prst="wedgeEllipseCallout">
              <a:avLst>
                <a:gd name="adj1" fmla="val 52055"/>
                <a:gd name="adj2" fmla="val 89787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743040" y="1550880"/>
              <a:ext cx="2289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Então, meu, estás fino da carola?</a:t>
              </a:r>
              <a:endParaRPr b="0" lang="en-US" sz="2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95" name="Grupo 9"/>
          <p:cNvGrpSpPr/>
          <p:nvPr/>
        </p:nvGrpSpPr>
        <p:grpSpPr>
          <a:xfrm>
            <a:off x="5537160" y="1292400"/>
            <a:ext cx="3430800" cy="1657080"/>
            <a:chOff x="5537160" y="1292400"/>
            <a:chExt cx="3430800" cy="1657080"/>
          </a:xfrm>
        </p:grpSpPr>
        <p:sp>
          <p:nvSpPr>
            <p:cNvPr id="196" name="AutoShape 6"/>
            <p:cNvSpPr/>
            <p:nvPr/>
          </p:nvSpPr>
          <p:spPr>
            <a:xfrm>
              <a:off x="5537160" y="1292400"/>
              <a:ext cx="3404160" cy="1657080"/>
            </a:xfrm>
            <a:prstGeom prst="wedgeEllipseCallout">
              <a:avLst>
                <a:gd name="adj1" fmla="val -36379"/>
                <a:gd name="adj2" fmla="val 108523"/>
              </a:avLst>
            </a:prstGeom>
            <a:solidFill>
              <a:srgbClr val="daedef"/>
            </a:solidFill>
            <a:ln w="25560">
              <a:solidFill>
                <a:srgbClr val="a0ae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5705280" y="1663560"/>
              <a:ext cx="326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Ya, vai-se curtindo como se pode...</a:t>
              </a:r>
              <a:endParaRPr b="0" lang="en-US" sz="2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98" name="Text Box 4"/>
          <p:cNvSpPr/>
          <p:nvPr/>
        </p:nvSpPr>
        <p:spPr>
          <a:xfrm rot="19465800">
            <a:off x="2732040" y="3939480"/>
            <a:ext cx="365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0000"/>
                </a:solidFill>
                <a:latin typeface="Arial"/>
              </a:rPr>
              <a:t>Incorrecto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m 13" descr="jaime_Gama_02.jpg"/>
          <p:cNvPicPr/>
          <p:nvPr/>
        </p:nvPicPr>
        <p:blipFill>
          <a:blip r:embed="rId1"/>
          <a:stretch/>
        </p:blipFill>
        <p:spPr>
          <a:xfrm>
            <a:off x="646200" y="3944880"/>
            <a:ext cx="3670200" cy="24368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8"/>
          <p:cNvSpPr/>
          <p:nvPr/>
        </p:nvSpPr>
        <p:spPr>
          <a:xfrm>
            <a:off x="0" y="539640"/>
            <a:ext cx="4791240" cy="2536920"/>
          </a:xfrm>
          <a:prstGeom prst="wedgeEllipseCallout">
            <a:avLst>
              <a:gd name="adj1" fmla="val -3902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69720" y="957240"/>
            <a:ext cx="411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va pessoal! Eu sou presidente aqui desta chafarrica e por isso dirijo-me a todo o maralhal aqui da Assembleia: deputados, deputadas, amigos, convidados… ali ao Sampaio, olá Sampaio, meu, estás fixe?..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03" name="Imagem 14" descr="imagesCAWG08M0.jpg"/>
          <p:cNvPicPr/>
          <p:nvPr/>
        </p:nvPicPr>
        <p:blipFill>
          <a:blip r:embed="rId2"/>
          <a:stretch/>
        </p:blipFill>
        <p:spPr>
          <a:xfrm>
            <a:off x="4905360" y="3943440"/>
            <a:ext cx="3489480" cy="24462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4956120" y="520560"/>
            <a:ext cx="4187880" cy="2095560"/>
          </a:xfrm>
          <a:prstGeom prst="wedgeEllipseCallout">
            <a:avLst>
              <a:gd name="adj1" fmla="val -9231"/>
              <a:gd name="adj2" fmla="val 120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452920" y="784080"/>
            <a:ext cx="352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mº sr presidente da Assembleia da República, senhoras e senhores deputados, ilustres convidados, minhas senhoras e meus senhores…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Text Box 13"/>
          <p:cNvSpPr/>
          <p:nvPr/>
        </p:nvSpPr>
        <p:spPr>
          <a:xfrm rot="20198400">
            <a:off x="5021280" y="513216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9cc00"/>
                </a:solidFill>
                <a:latin typeface="Bodoni MT Black"/>
              </a:rPr>
              <a:t>CORRECTO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Text Box 12"/>
          <p:cNvSpPr/>
          <p:nvPr/>
        </p:nvSpPr>
        <p:spPr>
          <a:xfrm rot="20198400">
            <a:off x="797040" y="499392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0000"/>
                </a:solidFill>
                <a:latin typeface="Bodoni MT Black"/>
              </a:rPr>
              <a:t>ERRADO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38600" y="2130120"/>
            <a:ext cx="562608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ara se perceber a </a:t>
            </a:r>
            <a:r>
              <a:rPr b="0" lang="pt-PT" sz="3600" spc="-1" strike="noStrike">
                <a:solidFill>
                  <a:srgbClr val="006600"/>
                </a:solidFill>
                <a:latin typeface="Arial"/>
              </a:rPr>
              <a:t>Dêixis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, temos de nos situar num acto de enunciação – um diálogo, por exemp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685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viva%20a%20multidao"/>
          <p:cNvPicPr/>
          <p:nvPr/>
        </p:nvPicPr>
        <p:blipFill>
          <a:blip r:embed="rId1"/>
          <a:srcRect l="0" t="0" r="12601" b="0"/>
          <a:stretch/>
        </p:blipFill>
        <p:spPr>
          <a:xfrm>
            <a:off x="1251000" y="1484280"/>
            <a:ext cx="7048440" cy="53737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upo 32"/>
          <p:cNvGrpSpPr/>
          <p:nvPr/>
        </p:nvGrpSpPr>
        <p:grpSpPr>
          <a:xfrm>
            <a:off x="0" y="776160"/>
            <a:ext cx="2124000" cy="1212840"/>
            <a:chOff x="0" y="776160"/>
            <a:chExt cx="2124000" cy="1212840"/>
          </a:xfrm>
        </p:grpSpPr>
        <p:sp>
          <p:nvSpPr>
            <p:cNvPr id="213" name="AutoShape 7"/>
            <p:cNvSpPr/>
            <p:nvPr/>
          </p:nvSpPr>
          <p:spPr>
            <a:xfrm>
              <a:off x="0" y="776160"/>
              <a:ext cx="2124000" cy="1212840"/>
            </a:xfrm>
            <a:prstGeom prst="wedgeEllipseCallout">
              <a:avLst>
                <a:gd name="adj1" fmla="val 56425"/>
                <a:gd name="adj2" fmla="val 925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107640" y="1052280"/>
              <a:ext cx="19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Donde vem</a:t>
              </a:r>
              <a:r>
                <a:rPr b="1" lang="pt-PT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 esta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barulheira?!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15" name="Grupo 33"/>
          <p:cNvGrpSpPr/>
          <p:nvPr/>
        </p:nvGrpSpPr>
        <p:grpSpPr>
          <a:xfrm>
            <a:off x="0" y="2174760"/>
            <a:ext cx="2165400" cy="1197000"/>
            <a:chOff x="0" y="2174760"/>
            <a:chExt cx="2165400" cy="1197000"/>
          </a:xfrm>
        </p:grpSpPr>
        <p:sp>
          <p:nvSpPr>
            <p:cNvPr id="216" name="AutoShape 8"/>
            <p:cNvSpPr/>
            <p:nvPr/>
          </p:nvSpPr>
          <p:spPr>
            <a:xfrm>
              <a:off x="0" y="2174760"/>
              <a:ext cx="1940040" cy="1197000"/>
            </a:xfrm>
            <a:prstGeom prst="wedgeEllipseCallout">
              <a:avLst>
                <a:gd name="adj1" fmla="val 70129"/>
                <a:gd name="adj2" fmla="val -1299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185760" y="2292120"/>
              <a:ext cx="19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É a música do puto </a:t>
              </a:r>
              <a:r>
                <a:rPr b="1" lang="pt-PT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de cima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, não ouves?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pic>
        <p:nvPicPr>
          <p:cNvPr id="218" name="Picture 14" descr="toing"/>
          <p:cNvPicPr/>
          <p:nvPr/>
        </p:nvPicPr>
        <p:blipFill>
          <a:blip r:embed="rId2"/>
          <a:stretch/>
        </p:blipFill>
        <p:spPr>
          <a:xfrm rot="20685600">
            <a:off x="2760840" y="669960"/>
            <a:ext cx="1527120" cy="75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toing"/>
          <p:cNvPicPr/>
          <p:nvPr/>
        </p:nvPicPr>
        <p:blipFill>
          <a:blip r:embed="rId3"/>
          <a:stretch/>
        </p:blipFill>
        <p:spPr>
          <a:xfrm rot="20685600">
            <a:off x="3051000" y="260280"/>
            <a:ext cx="1527480" cy="75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toing"/>
          <p:cNvPicPr/>
          <p:nvPr/>
        </p:nvPicPr>
        <p:blipFill>
          <a:blip r:embed="rId4"/>
          <a:srcRect l="18525" t="0" r="0" b="0"/>
          <a:stretch/>
        </p:blipFill>
        <p:spPr>
          <a:xfrm>
            <a:off x="2540160" y="941400"/>
            <a:ext cx="1295280" cy="790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toing"/>
          <p:cNvPicPr/>
          <p:nvPr/>
        </p:nvPicPr>
        <p:blipFill>
          <a:blip r:embed="rId5"/>
          <a:stretch/>
        </p:blipFill>
        <p:spPr>
          <a:xfrm rot="20685600">
            <a:off x="1969920" y="322200"/>
            <a:ext cx="15274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upo 42"/>
          <p:cNvGrpSpPr/>
          <p:nvPr/>
        </p:nvGrpSpPr>
        <p:grpSpPr>
          <a:xfrm>
            <a:off x="2195640" y="2205000"/>
            <a:ext cx="490320" cy="316080"/>
            <a:chOff x="2195640" y="2205000"/>
            <a:chExt cx="490320" cy="316080"/>
          </a:xfrm>
        </p:grpSpPr>
        <p:sp>
          <p:nvSpPr>
            <p:cNvPr id="223" name="Line 11"/>
            <p:cNvSpPr/>
            <p:nvPr/>
          </p:nvSpPr>
          <p:spPr>
            <a:xfrm flipH="1">
              <a:off x="2370240" y="2205000"/>
              <a:ext cx="856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2195640" y="2233440"/>
              <a:ext cx="14436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 flipH="1">
              <a:off x="2397240" y="2233440"/>
              <a:ext cx="288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26" name="Grupo 34"/>
          <p:cNvGrpSpPr/>
          <p:nvPr/>
        </p:nvGrpSpPr>
        <p:grpSpPr>
          <a:xfrm>
            <a:off x="187200" y="3516480"/>
            <a:ext cx="2210040" cy="1153800"/>
            <a:chOff x="187200" y="3516480"/>
            <a:chExt cx="2210040" cy="1153800"/>
          </a:xfrm>
        </p:grpSpPr>
        <p:sp>
          <p:nvSpPr>
            <p:cNvPr id="227" name="AutoShape 18"/>
            <p:cNvSpPr/>
            <p:nvPr/>
          </p:nvSpPr>
          <p:spPr>
            <a:xfrm>
              <a:off x="187200" y="3516480"/>
              <a:ext cx="2197440" cy="1153800"/>
            </a:xfrm>
            <a:prstGeom prst="wedgeEllipseCallout">
              <a:avLst>
                <a:gd name="adj1" fmla="val 48990"/>
                <a:gd name="adj2" fmla="val -1310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488880" y="3654360"/>
              <a:ext cx="19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Dá-me </a:t>
              </a:r>
              <a:r>
                <a:rPr b="1" lang="pt-PT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isso aí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, que ele já vai ver...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29" name="Grupo 35"/>
          <p:cNvGrpSpPr/>
          <p:nvPr/>
        </p:nvGrpSpPr>
        <p:grpSpPr>
          <a:xfrm>
            <a:off x="4002120" y="1587600"/>
            <a:ext cx="2006640" cy="1119240"/>
            <a:chOff x="4002120" y="1587600"/>
            <a:chExt cx="2006640" cy="1119240"/>
          </a:xfrm>
        </p:grpSpPr>
        <p:sp>
          <p:nvSpPr>
            <p:cNvPr id="230" name="AutoShape 22"/>
            <p:cNvSpPr/>
            <p:nvPr/>
          </p:nvSpPr>
          <p:spPr>
            <a:xfrm>
              <a:off x="4002120" y="1587600"/>
              <a:ext cx="2006640" cy="1119240"/>
            </a:xfrm>
            <a:prstGeom prst="wedgeEllipseCallout">
              <a:avLst>
                <a:gd name="adj1" fmla="val -93523"/>
                <a:gd name="adj2" fmla="val 861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31" name="Text Box 23"/>
            <p:cNvSpPr/>
            <p:nvPr/>
          </p:nvSpPr>
          <p:spPr>
            <a:xfrm>
              <a:off x="4263840" y="1739880"/>
              <a:ext cx="17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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de puto!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32" name="Grupo 36"/>
          <p:cNvGrpSpPr/>
          <p:nvPr/>
        </p:nvGrpSpPr>
        <p:grpSpPr>
          <a:xfrm>
            <a:off x="4614840" y="2647800"/>
            <a:ext cx="1957320" cy="924120"/>
            <a:chOff x="4614840" y="2647800"/>
            <a:chExt cx="1957320" cy="924120"/>
          </a:xfrm>
        </p:grpSpPr>
        <p:sp>
          <p:nvSpPr>
            <p:cNvPr id="233" name="AutoShape 24"/>
            <p:cNvSpPr/>
            <p:nvPr/>
          </p:nvSpPr>
          <p:spPr>
            <a:xfrm>
              <a:off x="4614840" y="2647800"/>
              <a:ext cx="1847880" cy="924120"/>
            </a:xfrm>
            <a:prstGeom prst="wedgeEllipseCallout">
              <a:avLst>
                <a:gd name="adj1" fmla="val -134879"/>
                <a:gd name="adj2" fmla="val 730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34" name="Text Box 25"/>
            <p:cNvSpPr/>
            <p:nvPr/>
          </p:nvSpPr>
          <p:spPr>
            <a:xfrm>
              <a:off x="4779720" y="2763720"/>
              <a:ext cx="179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Eu mato </a:t>
              </a:r>
              <a:r>
                <a:rPr b="1" lang="pt-PT" sz="1800" spc="-1" strike="noStrike" u="sng">
                  <a:solidFill>
                    <a:srgbClr val="009999"/>
                  </a:solidFill>
                  <a:uFillTx/>
                  <a:latin typeface="Arial"/>
                </a:rPr>
                <a:t>aquele</a:t>
              </a: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 gajo!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35" name="Grupo 38"/>
          <p:cNvGrpSpPr/>
          <p:nvPr/>
        </p:nvGrpSpPr>
        <p:grpSpPr>
          <a:xfrm>
            <a:off x="6372360" y="412920"/>
            <a:ext cx="1985760" cy="922320"/>
            <a:chOff x="6372360" y="412920"/>
            <a:chExt cx="1985760" cy="922320"/>
          </a:xfrm>
        </p:grpSpPr>
        <p:sp>
          <p:nvSpPr>
            <p:cNvPr id="236" name="AutoShape 26"/>
            <p:cNvSpPr/>
            <p:nvPr/>
          </p:nvSpPr>
          <p:spPr>
            <a:xfrm>
              <a:off x="6372360" y="412920"/>
              <a:ext cx="1541520" cy="922320"/>
            </a:xfrm>
            <a:prstGeom prst="wedgeEllipseCallout">
              <a:avLst>
                <a:gd name="adj1" fmla="val -307259"/>
                <a:gd name="adj2" fmla="val 1295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6450120" y="515880"/>
              <a:ext cx="19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Ganda som, bro...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38" name="Grupo 39"/>
          <p:cNvGrpSpPr/>
          <p:nvPr/>
        </p:nvGrpSpPr>
        <p:grpSpPr>
          <a:xfrm>
            <a:off x="7257960" y="1430280"/>
            <a:ext cx="1886040" cy="924120"/>
            <a:chOff x="7257960" y="1430280"/>
            <a:chExt cx="1886040" cy="924120"/>
          </a:xfrm>
        </p:grpSpPr>
        <p:sp>
          <p:nvSpPr>
            <p:cNvPr id="239" name="AutoShape 30"/>
            <p:cNvSpPr/>
            <p:nvPr/>
          </p:nvSpPr>
          <p:spPr>
            <a:xfrm>
              <a:off x="7257960" y="1430280"/>
              <a:ext cx="1848240" cy="924120"/>
            </a:xfrm>
            <a:prstGeom prst="wedgeEllipseCallout">
              <a:avLst>
                <a:gd name="adj1" fmla="val -88486"/>
                <a:gd name="adj2" fmla="val 682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0" name="Text Box 32"/>
            <p:cNvSpPr/>
            <p:nvPr/>
          </p:nvSpPr>
          <p:spPr>
            <a:xfrm>
              <a:off x="7351560" y="1558800"/>
              <a:ext cx="179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rédios nunca mais!...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41" name="Grupo 40"/>
          <p:cNvGrpSpPr/>
          <p:nvPr/>
        </p:nvGrpSpPr>
        <p:grpSpPr>
          <a:xfrm>
            <a:off x="7039080" y="2460600"/>
            <a:ext cx="1901880" cy="924120"/>
            <a:chOff x="7039080" y="2460600"/>
            <a:chExt cx="1901880" cy="924120"/>
          </a:xfrm>
        </p:grpSpPr>
        <p:sp>
          <p:nvSpPr>
            <p:cNvPr id="242" name="AutoShape 33"/>
            <p:cNvSpPr/>
            <p:nvPr/>
          </p:nvSpPr>
          <p:spPr>
            <a:xfrm>
              <a:off x="7039080" y="2460600"/>
              <a:ext cx="1848240" cy="924120"/>
            </a:xfrm>
            <a:prstGeom prst="wedgeEllipseCallout">
              <a:avLst>
                <a:gd name="adj1" fmla="val -83074"/>
                <a:gd name="adj2" fmla="val -371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7148520" y="2617560"/>
              <a:ext cx="179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Vamos pra uma moradia.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44" name="Grupo 37"/>
          <p:cNvGrpSpPr/>
          <p:nvPr/>
        </p:nvGrpSpPr>
        <p:grpSpPr>
          <a:xfrm>
            <a:off x="4513320" y="3879720"/>
            <a:ext cx="2020680" cy="924120"/>
            <a:chOff x="4513320" y="3879720"/>
            <a:chExt cx="2020680" cy="924120"/>
          </a:xfrm>
        </p:grpSpPr>
        <p:sp>
          <p:nvSpPr>
            <p:cNvPr id="245" name="AutoShape 39"/>
            <p:cNvSpPr/>
            <p:nvPr/>
          </p:nvSpPr>
          <p:spPr>
            <a:xfrm>
              <a:off x="4513320" y="3879720"/>
              <a:ext cx="1847880" cy="924120"/>
            </a:xfrm>
            <a:prstGeom prst="wedgeEllipseCallout">
              <a:avLst>
                <a:gd name="adj1" fmla="val -122509"/>
                <a:gd name="adj2" fmla="val -5343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6" name="Text Box 40"/>
            <p:cNvSpPr/>
            <p:nvPr/>
          </p:nvSpPr>
          <p:spPr>
            <a:xfrm>
              <a:off x="4741920" y="4059000"/>
              <a:ext cx="179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Tá calado, ó grunho!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247" name="Grupo 41"/>
          <p:cNvGrpSpPr/>
          <p:nvPr/>
        </p:nvGrpSpPr>
        <p:grpSpPr>
          <a:xfrm>
            <a:off x="2295360" y="1073160"/>
            <a:ext cx="372960" cy="428760"/>
            <a:chOff x="2295360" y="1073160"/>
            <a:chExt cx="372960" cy="428760"/>
          </a:xfrm>
        </p:grpSpPr>
        <p:sp>
          <p:nvSpPr>
            <p:cNvPr id="248" name="Line 20"/>
            <p:cNvSpPr/>
            <p:nvPr/>
          </p:nvSpPr>
          <p:spPr>
            <a:xfrm flipH="1">
              <a:off x="2415960" y="1166760"/>
              <a:ext cx="3816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2295360" y="1166760"/>
              <a:ext cx="9360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0" name="Line 20"/>
            <p:cNvSpPr/>
            <p:nvPr/>
          </p:nvSpPr>
          <p:spPr>
            <a:xfrm flipH="1">
              <a:off x="2434680" y="1073160"/>
              <a:ext cx="2336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09280" y="1370160"/>
            <a:ext cx="771516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para também no diálogo segui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63560" y="2603520"/>
            <a:ext cx="7599240" cy="3141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- Traz-me </a:t>
            </a:r>
            <a:r>
              <a:rPr b="1" lang="pt-PT" sz="4000" spc="-1" strike="noStrike">
                <a:solidFill>
                  <a:srgbClr val="009999"/>
                </a:solidFill>
                <a:latin typeface="Arial Unicode MS"/>
              </a:rPr>
              <a:t>ESSE</a:t>
            </a: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 livro, por favo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- Qual? </a:t>
            </a:r>
            <a:r>
              <a:rPr b="1" lang="pt-PT" sz="4000" spc="-1" strike="noStrike">
                <a:solidFill>
                  <a:srgbClr val="009999"/>
                </a:solidFill>
                <a:latin typeface="Arial Unicode MS"/>
              </a:rPr>
              <a:t>ESTE</a:t>
            </a: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- Não, </a:t>
            </a:r>
            <a:r>
              <a:rPr b="1" lang="pt-PT" sz="4000" spc="-1" strike="noStrike">
                <a:solidFill>
                  <a:srgbClr val="009999"/>
                </a:solidFill>
                <a:latin typeface="Arial Unicode MS"/>
              </a:rPr>
              <a:t>AQUELE</a:t>
            </a:r>
            <a:r>
              <a:rPr b="0" lang="pt-PT" sz="4000" spc="-1" strike="noStrike">
                <a:solidFill>
                  <a:srgbClr val="000000"/>
                </a:solidFill>
                <a:latin typeface="Arial Unicode MS"/>
              </a:rPr>
              <a:t> que está ao lado do computado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16040" y="1895400"/>
            <a:ext cx="6328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A identificação do livro a que os 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INTERLOCUTORES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 se referem só seria possível se estivéssemos presentes no 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CONTEXTO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, isto é, no local onde a conversa dec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34920" y="1506600"/>
            <a:ext cx="573876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 deixis é uma forma de organizar as referências linguísticas (pessoais, espaciais e temporais) a partir de um acto de enunciaçã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79200" y="1630080"/>
            <a:ext cx="57517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 livro em questão é aquele para o qual o sujeito da enunciação aponta (ESSE) situando-o num determinado lugar (ao lado do computador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CaixaDeTexto 4"/>
          <p:cNvSpPr/>
          <p:nvPr/>
        </p:nvSpPr>
        <p:spPr>
          <a:xfrm>
            <a:off x="2689200" y="1577880"/>
            <a:ext cx="58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 Rounded MT Bold"/>
              </a:rPr>
              <a:t>A referênia deítica é extratextual: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CaixaDeTexto 5"/>
          <p:cNvSpPr/>
          <p:nvPr/>
        </p:nvSpPr>
        <p:spPr>
          <a:xfrm>
            <a:off x="2471760" y="2862360"/>
            <a:ext cx="6084720" cy="2440080"/>
          </a:xfrm>
          <a:prstGeom prst="rect">
            <a:avLst/>
          </a:prstGeom>
          <a:noFill/>
          <a:ln w="19080">
            <a:solidFill>
              <a:srgbClr val="5e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pt-PT" sz="2200" spc="-1" strike="noStrike">
                <a:solidFill>
                  <a:srgbClr val="000000"/>
                </a:solidFill>
                <a:latin typeface="Arial Rounded MT Bold"/>
              </a:rPr>
              <a:t>É de tarde. Estou eu aqui sentado a escrever versos, está em frente da janela o Joaquim António de Aguiar sobre o pedestal a olhar um decreto, e está mais adiante um soldado, hirto, de espingarda na mão, a guardar um banco. Pergunta: que diferença haverá entre nós os três?”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1" name="CaixaDeTexto 6"/>
          <p:cNvSpPr/>
          <p:nvPr/>
        </p:nvSpPr>
        <p:spPr>
          <a:xfrm>
            <a:off x="2700360" y="236232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 Rounded MT Bold"/>
              </a:rPr>
              <a:t>Coimbra, 3 de janeiro de 194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CaixaDeTexto 7"/>
          <p:cNvSpPr/>
          <p:nvPr/>
        </p:nvSpPr>
        <p:spPr>
          <a:xfrm>
            <a:off x="5257800" y="5551560"/>
            <a:ext cx="32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 Rounded MT Bold"/>
              </a:rPr>
              <a:t>Miguel Torga, </a:t>
            </a:r>
            <a:r>
              <a:rPr b="0" i="1" lang="pt-PT" sz="1800" spc="-1" strike="noStrike">
                <a:solidFill>
                  <a:srgbClr val="000000"/>
                </a:solidFill>
                <a:latin typeface="Arial Rounded MT Bold"/>
              </a:rPr>
              <a:t>Diário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1767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timologicamente a palavra refere-se ao </a:t>
            </a:r>
            <a:r>
              <a:rPr b="1" lang="pt-PT" sz="3200" spc="-1" strike="noStrike">
                <a:solidFill>
                  <a:srgbClr val="009999"/>
                </a:solidFill>
                <a:latin typeface="Arial"/>
              </a:rPr>
              <a:t>acto de mostrar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78" descr="WOMAN"/>
          <p:cNvPicPr/>
          <p:nvPr/>
        </p:nvPicPr>
        <p:blipFill>
          <a:blip r:embed="rId1"/>
          <a:stretch/>
        </p:blipFill>
        <p:spPr>
          <a:xfrm>
            <a:off x="7451640" y="4221000"/>
            <a:ext cx="1405080" cy="229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9" descr="SCHOOL3"/>
          <p:cNvPicPr/>
          <p:nvPr/>
        </p:nvPicPr>
        <p:blipFill>
          <a:blip r:embed="rId2"/>
          <a:stretch/>
        </p:blipFill>
        <p:spPr>
          <a:xfrm>
            <a:off x="250920" y="4869000"/>
            <a:ext cx="684216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upo 7"/>
          <p:cNvGrpSpPr/>
          <p:nvPr/>
        </p:nvGrpSpPr>
        <p:grpSpPr>
          <a:xfrm>
            <a:off x="4643280" y="2060640"/>
            <a:ext cx="3891240" cy="2016000"/>
            <a:chOff x="4643280" y="2060640"/>
            <a:chExt cx="3891240" cy="2016000"/>
          </a:xfrm>
        </p:grpSpPr>
        <p:sp>
          <p:nvSpPr>
            <p:cNvPr id="137" name="AutoShape 183"/>
            <p:cNvSpPr/>
            <p:nvPr/>
          </p:nvSpPr>
          <p:spPr>
            <a:xfrm>
              <a:off x="4643280" y="2060640"/>
              <a:ext cx="3745440" cy="2016000"/>
            </a:xfrm>
            <a:prstGeom prst="wedgeEllipseCallout">
              <a:avLst>
                <a:gd name="adj1" fmla="val 45125"/>
                <a:gd name="adj2" fmla="val 58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8" name="Text Box 184"/>
            <p:cNvSpPr/>
            <p:nvPr/>
          </p:nvSpPr>
          <p:spPr>
            <a:xfrm>
              <a:off x="5529240" y="2170080"/>
              <a:ext cx="3005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Finalmente aposentada… Nunca mais </a:t>
              </a:r>
              <a:r>
                <a:rPr b="1" lang="pt-PT" sz="2800" spc="-1" strike="noStrike">
                  <a:solidFill>
                    <a:srgbClr val="3c8c93"/>
                  </a:solidFill>
                  <a:latin typeface="Arial"/>
                </a:rPr>
                <a:t>cá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volto!</a:t>
              </a:r>
              <a:endParaRPr b="0" lang="en-US" sz="2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198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u..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1692360" y="1484280"/>
            <a:ext cx="3897360" cy="5011920"/>
            <a:chOff x="1692360" y="1484280"/>
            <a:chExt cx="3897360" cy="5011920"/>
          </a:xfrm>
        </p:grpSpPr>
        <p:pic>
          <p:nvPicPr>
            <p:cNvPr id="142" name="Picture 4" descr="PICTRFRM"/>
            <p:cNvPicPr/>
            <p:nvPr/>
          </p:nvPicPr>
          <p:blipFill>
            <a:blip r:embed="rId1"/>
            <a:stretch/>
          </p:blipFill>
          <p:spPr>
            <a:xfrm>
              <a:off x="1692360" y="1484280"/>
              <a:ext cx="3897360" cy="50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HEADDONK"/>
            <p:cNvPicPr/>
            <p:nvPr/>
          </p:nvPicPr>
          <p:blipFill>
            <a:blip r:embed="rId2"/>
            <a:stretch/>
          </p:blipFill>
          <p:spPr>
            <a:xfrm>
              <a:off x="1890720" y="2346120"/>
              <a:ext cx="3577680" cy="30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AutoShape 8"/>
          <p:cNvSpPr/>
          <p:nvPr/>
        </p:nvSpPr>
        <p:spPr>
          <a:xfrm>
            <a:off x="5904000" y="1341360"/>
            <a:ext cx="2989080" cy="1943280"/>
          </a:xfrm>
          <a:prstGeom prst="wedgeEllipseCallout">
            <a:avLst>
              <a:gd name="adj1" fmla="val -98912"/>
              <a:gd name="adj2" fmla="val 94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300720" y="1773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ESTE sou eu!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sta%20catarina"/>
          <p:cNvPicPr/>
          <p:nvPr/>
        </p:nvPicPr>
        <p:blipFill>
          <a:blip r:embed="rId1"/>
          <a:stretch/>
        </p:blipFill>
        <p:spPr>
          <a:xfrm>
            <a:off x="896760" y="2852640"/>
            <a:ext cx="3891240" cy="2805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827680" y="2006640"/>
            <a:ext cx="25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ãe, estou AQUI!!!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57960" y="1704960"/>
            <a:ext cx="3024000" cy="1905120"/>
          </a:xfrm>
          <a:prstGeom prst="wedgeEllipseCallout">
            <a:avLst>
              <a:gd name="adj1" fmla="val -102912"/>
              <a:gd name="adj2" fmla="val 84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8c0039"/>
                </a:solidFill>
                <a:latin typeface="Arial"/>
              </a:rPr>
              <a:t>Dêixi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0520" y="1917720"/>
            <a:ext cx="602784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demos definir 4 tipos fundamentais de dêix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e4005c"/>
                </a:solidFill>
                <a:latin typeface="Arial"/>
              </a:rPr>
              <a:t>1)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3200" spc="-1" strike="noStrike">
                <a:solidFill>
                  <a:srgbClr val="e4005c"/>
                </a:solidFill>
                <a:latin typeface="Arial"/>
              </a:rPr>
              <a:t>deixis pessoal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– identifica os papéis dos participantes na interacção discursiva.(eu – enunciador; tu – enunciatári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Romeo%20&amp;%20Juliet%201"/>
          <p:cNvPicPr/>
          <p:nvPr/>
        </p:nvPicPr>
        <p:blipFill>
          <a:blip r:embed="rId1"/>
          <a:stretch/>
        </p:blipFill>
        <p:spPr>
          <a:xfrm>
            <a:off x="2230560" y="3727440"/>
            <a:ext cx="43434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1"/>
          <p:cNvSpPr/>
          <p:nvPr/>
        </p:nvSpPr>
        <p:spPr>
          <a:xfrm>
            <a:off x="4618080" y="1014480"/>
            <a:ext cx="4351320" cy="2087640"/>
          </a:xfrm>
          <a:prstGeom prst="wedgeEllipseCallout">
            <a:avLst>
              <a:gd name="adj1" fmla="val -32750"/>
              <a:gd name="adj2" fmla="val 103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0" y="1279440"/>
            <a:ext cx="4643280" cy="2278080"/>
          </a:xfrm>
          <a:prstGeom prst="wedgeEllipseCallout">
            <a:avLst>
              <a:gd name="adj1" fmla="val 27634"/>
              <a:gd name="adj2" fmla="val 74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57200" y="1681200"/>
            <a:ext cx="44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em sabes que [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] te dou todo o 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m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amor, 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m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torrãozinho de açúcar de beterraba ingles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4910040" y="1398600"/>
            <a:ext cx="40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sei, 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m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repolhinho tenro; mas não </a:t>
            </a:r>
            <a:r>
              <a:rPr b="1" lang="pt-PT" sz="2400" spc="-1" strike="noStrike">
                <a:solidFill>
                  <a:srgbClr val="009999"/>
                </a:solidFill>
                <a:latin typeface="Arial"/>
              </a:rPr>
              <a:t>m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poderias dar antes um BMW 525 i ?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49200" y="404820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857160" y="4280040"/>
            <a:ext cx="43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37480" y="406224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7345440" y="4280040"/>
            <a:ext cx="4348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812880" y="739800"/>
            <a:ext cx="12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9480" y="1805040"/>
            <a:ext cx="754848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99"/>
                </a:solidFill>
                <a:latin typeface="Arial"/>
              </a:rPr>
              <a:t>2) deixis espacial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– indica o ponto de referência [</a:t>
            </a:r>
            <a:r>
              <a:rPr b="0" lang="pt-PT" sz="4000" spc="-1" strike="noStrike">
                <a:solidFill>
                  <a:srgbClr val="ff0000"/>
                </a:solidFill>
                <a:latin typeface="Arial"/>
              </a:rPr>
              <a:t>AQUI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] do enunciador, que lhe permite referir-se ao espaço como próximo ou afastado de s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êi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bruxa"/>
          <p:cNvPicPr/>
          <p:nvPr/>
        </p:nvPicPr>
        <p:blipFill>
          <a:blip r:embed="rId1"/>
          <a:stretch/>
        </p:blipFill>
        <p:spPr>
          <a:xfrm>
            <a:off x="1084320" y="2995560"/>
            <a:ext cx="2454120" cy="33512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3565440" y="1787400"/>
            <a:ext cx="4030920" cy="2073240"/>
          </a:xfrm>
          <a:prstGeom prst="wedgeEllipseCallout">
            <a:avLst>
              <a:gd name="adj1" fmla="val -63782"/>
              <a:gd name="adj2" fmla="val 49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138560" y="1989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h, eh, eh. O João Ratão está </a:t>
            </a:r>
            <a:r>
              <a:rPr b="1" lang="pt-PT" sz="3200" spc="-1" strike="noStrike">
                <a:solidFill>
                  <a:srgbClr val="009999"/>
                </a:solidFill>
                <a:latin typeface="Arial"/>
              </a:rPr>
              <a:t>AQUI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26920" y="11764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20:58:32Z</dcterms:created>
  <dc:creator>Manuel Vieira</dc:creator>
  <dc:description/>
  <dc:language>en-US</dc:language>
  <cp:lastModifiedBy>-</cp:lastModifiedBy>
  <dcterms:modified xsi:type="dcterms:W3CDTF">2012-01-26T10:24:47Z</dcterms:modified>
  <cp:revision>38</cp:revision>
  <dc:subject/>
  <dc:title>A Deixis</dc:title>
</cp:coreProperties>
</file>