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BF0-ED1D-4B6C-9730-6FE42C6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86F-5820-4E55-B1A5-2689295E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6A2-7C45-443E-9EE3-54D7329A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7E5-0610-46C1-8856-CBCCDC2C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9CC-9B40-481B-BE02-36C62CE5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C71-F844-4F94-A880-A60F3DB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CC8-DE35-448F-9AE6-472E45EB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79D-FB2C-4D56-A84F-70E9BBA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F7D-53C6-48D6-8E17-1EE1DE0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BE9-3CCC-4A08-BFA8-6D575702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956-8CA4-46E5-AD1B-99806904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F3E-4631-4552-970D-AA7AB872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B491-C7D2-4929-9C72-6D94707B661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 asp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lor aspe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ângulo 5"/>
          <p:cNvSpPr/>
          <p:nvPr/>
        </p:nvSpPr>
        <p:spPr>
          <a:xfrm>
            <a:off x="3785400" y="45813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uel Vi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lex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89080" y="2198520"/>
            <a:ext cx="6696000" cy="18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Alguns verbos que expressam </a:t>
            </a: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eventos não durativos</a:t>
            </a: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Nascer, morrer, chegar entrar, sair, encontrar, chocar comprar, cair, partir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71640" y="1847880"/>
            <a:ext cx="7488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construção dos valores aspetuais numa frase é, normalmente, composicional, isto é, não depende apenas do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valor lexical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, mas também de outros marc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71640" y="3216240"/>
            <a:ext cx="748980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Sufixos de flexão verbal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O Pedr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estud[a]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medicina. O Pedr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estud[ava]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psicologia quando a irmã acabou economia. </a:t>
            </a:r>
            <a:br>
              <a:rPr sz="2000"/>
            </a:b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mbas as formas exprimem aspeto du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71640" y="5013360"/>
            <a:ext cx="7489800" cy="92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Verbos auxiliare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Tenho visto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muitos filmes. (aspeto iterat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00000" y="1773360"/>
            <a:ext cx="7489800" cy="92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Grupos nominais ou outras expressõe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Vou a Paris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todos os ano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 (aspeto habi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898560" y="2924280"/>
            <a:ext cx="7489800" cy="12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Verbos auxiliares aspetuais que indicam início, decurso e final de uma situaçã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comecei a ler o livro; estou a ler o livro; acabei de ler o liv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00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lguns val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26920" y="1989000"/>
            <a:ext cx="770580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1. Aspeto perfetiv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(situação culminada)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situação expressa pelo enunciado está concluída.</a:t>
            </a:r>
            <a:br>
              <a:rPr sz="24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O jog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cabou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826920" y="3284640"/>
            <a:ext cx="7705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 tempo verbal normalmente associado a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speto perfetivo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é o pretérito perfeito do indic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826920" y="4162320"/>
            <a:ext cx="7705800" cy="14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2. Aspeto imperfetiv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(situação não culminada)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situação expressa pelo enunciado não está concluída/ está ainda em curso.</a:t>
            </a:r>
            <a:br>
              <a:rPr sz="24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O atleta corria a maratona (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evento prolongado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no pass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826920" y="5805360"/>
            <a:ext cx="7705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 tempo verbal normalmente associado a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speto imperfetivo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é o pretérito imperfeito do indic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900000" y="1989000"/>
            <a:ext cx="7632720" cy="180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3. Aspeto genéric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situação expressa pelo enunciado remete para afirmações aceites como universais ou intemporais.</a:t>
            </a:r>
            <a:br>
              <a:rPr sz="24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Fumar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faz mal à saúde. O calor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dilata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os corpos. Crianças que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leem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desde ced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desenvolvem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melhores aprendiza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00000" y="4149720"/>
            <a:ext cx="7634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s tempos verbais normalmente associados a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speto genérico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são o presente do indicativo e o infin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900000" y="1989000"/>
            <a:ext cx="7632720" cy="19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4. Aspeto habitual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situação expressa pelo enunciado apresenta-se como recorrente num período de tempo ilim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Costumamos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jantar fora aos sábados/todos os dias; na Amazónia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chove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sempre ao fim do dia.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lmoçávamo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juntos ao sáb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00000" y="4373640"/>
            <a:ext cx="7634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s tempos verbais normalmente associados a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speto habitual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são o presente do indicativo e o pretérito imperfeito do indic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1989000"/>
            <a:ext cx="7632720" cy="21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5. Aspeto iterativ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situação expressa pelo enunciado apresenta-se como regular num período de tempo delimitado ou não.</a:t>
            </a:r>
            <a:br>
              <a:rPr sz="2400"/>
            </a:br>
            <a:br>
              <a:rPr sz="24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Esta semana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tem chovido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muito. A água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pingou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na sala durante toda a aula. O Pedr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tossiu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durante toda a no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00000" y="4653000"/>
            <a:ext cx="7634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s tempo verbais normalmente associados a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speto iterativo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são o pretérito perfeito composto (com eventos) e o pretérito perfeito si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684360" y="1700280"/>
            <a:ext cx="74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o localizar no tempo as situações, o falante também pode dizer como as vê quanto ao seu desenrolar 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no eixo da temporalidad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: eventos instantâneos, eventos com duração num tempo limitado, algo que é habitual, algo genérico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56000" y="620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lor aspe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87240" y="4581360"/>
            <a:ext cx="77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o fazê-lo está atribuir-lhes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valores aspetuai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184464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spet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é, portanto, a categoria gramatical que exprime a estrutura temporal interna de uma situ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56000" y="620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lor aspe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00000" y="35733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x: A Eva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viv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m Matosi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826920" y="443700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ém da informação temporal, o enunciado também fornece a informação de que se trata de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uma situação habitual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, uma vez que se repete ao longo de um tempo ilimi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68360" y="76500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lex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9640" y="1628640"/>
            <a:ext cx="80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Valor aspetual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decorre do significado inerente a um verbo ou outro elemento lexical, independentemente do valor dos restantes elementos linguísticos com que pode coocorrer num enunciado.</a:t>
            </a: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or exemplo, 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speto lexical de um verb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efine-se com ele no infinitivo (desprovido dos elementos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lexiona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4941720"/>
            <a:ext cx="806472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x: Os verbos conversar, correr, comer, estudar, jogar, exprimem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um valor aspetual durativ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 não instantâneo ou pon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lex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1592280"/>
            <a:ext cx="72010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x:2 Os verbos cair, abrir, nascer… exprimem valor aspetual não dur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00000" y="2492280"/>
            <a:ext cx="71992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x:3 Os verbos cair, abrir, nascer… exprimem valor aspetual não dur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900000" y="3392640"/>
            <a:ext cx="71992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x:4 Os nomes almoço, corrida, conversa exprimem valor aspetual dur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900000" y="4292640"/>
            <a:ext cx="7199280" cy="1191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x:5 Os nomes partida, desmaio, pontapé… devido ao seu significado intrínseco exprimem valor aspetual não dur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lex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71640" y="1751040"/>
            <a:ext cx="691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 aspeto lexical dos verbos permite distinguir duas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lasses aspetua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900000" y="3068640"/>
            <a:ext cx="748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1. Situação estativa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(não dinâmica) – exprime uma situação não dinâmica e homogénea na duração temporal que possui.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s situações estativas não admitem mudança de estado no tempo a elas assoc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042920" y="52941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Rita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or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m Paris; o Pedr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al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Hin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lex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1484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guns exemplos com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verbos estativo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que exprimem estad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26920" y="2216160"/>
            <a:ext cx="74170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Há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ratos no quintal. (verbo ha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26920" y="2733840"/>
            <a:ext cx="74170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. O auditóri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stá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às moscas. (verbos copul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826920" y="3262320"/>
            <a:ext cx="7417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3. O Joã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os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da Maria.(verbos psicológicos – gostar, amar, admirar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826920" y="3983040"/>
            <a:ext cx="7417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4. O Pedr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ab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Francês. (verbos epistémicos – saber, conhecer, compreender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826920" y="4653000"/>
            <a:ext cx="7417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5. As casas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ertencem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ao município. (verbos de posse – ter, possuir, pertencer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826920" y="5516640"/>
            <a:ext cx="7417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6. O Joã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resid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em Londres. (existir, morar, residir, habitar, v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900000" y="1700280"/>
            <a:ext cx="748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O evento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(situação dinâmica) – exprime ações, factos ou processos dinâmicos em que ocorre uma mudança de est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lex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900000" y="3213000"/>
            <a:ext cx="748836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s eventos podem s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2.1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durativos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– têm uma ação prolongada no tempo. A expressão de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eventos prolongados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ocorre frequentemente com advérbios ou locuções adverbiais que indicam t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1: O professor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falou durante toda  aula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2: O pintor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pintou a casa em três dia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3: Ele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almoçou em dez minuto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195640" y="6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peto lex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84360" y="2073240"/>
            <a:ext cx="7775280" cy="128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2.2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ão durativos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– expressam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situações pontuais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, em que a duração temporal quase não existe, por ser muito breve ou praticamente instantân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84360" y="3683160"/>
            <a:ext cx="7775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O João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caiu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; A Maria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espirrou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; a criança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nasceu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684360" y="4389480"/>
            <a:ext cx="7775280" cy="119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Nos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eventos instantâneos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, se existirem advérbios ou locuções adverbiais, apenas podem ter valor pon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x: O avião chegou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às 10 hora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 *O avião chegou </a:t>
            </a:r>
            <a:r>
              <a:rPr b="1" lang="pt-PT" sz="2000" spc="-1" strike="noStrike">
                <a:solidFill>
                  <a:srgbClr val="ff0000"/>
                </a:solidFill>
                <a:latin typeface="Calibri"/>
              </a:rPr>
              <a:t>durante duas hora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36:22Z</dcterms:created>
  <dc:creator>Rita Vieira</dc:creator>
  <dc:description/>
  <dc:language>en-US</dc:language>
  <cp:lastModifiedBy>-</cp:lastModifiedBy>
  <dcterms:modified xsi:type="dcterms:W3CDTF">2012-01-26T10:27:59Z</dcterms:modified>
  <cp:revision>6</cp:revision>
  <dc:subject/>
  <dc:title>O aspeto</dc:title>
</cp:coreProperties>
</file>