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F49-2296-41AE-9A8E-C9942C2C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7AE-7903-4787-9690-4CA08769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133-C51A-44E9-A252-66B2CC9A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C73-79EF-4C46-B23F-9400BD30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F25-07AA-4AE1-BF3B-6529BFF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4D3-54E8-4757-A125-A990A44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A80-A0AB-4C82-95D0-C4387D75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080-5F62-44FC-AD8D-1C63698B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A13-A756-4077-AAC0-0B2D65C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895-5C83-426F-8D77-3D944EC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55C-D38E-4263-8A56-C10AAB2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B81-AD0E-45A0-9C3A-2D4028F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F51B-49C3-4BE9-A6DE-7F651CB53BF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esão e coerência text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ferência anafórica e de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3"/>
          <p:cNvSpPr/>
          <p:nvPr/>
        </p:nvSpPr>
        <p:spPr>
          <a:xfrm>
            <a:off x="3597120" y="51577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uel Vi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ângulo 1"/>
          <p:cNvSpPr/>
          <p:nvPr/>
        </p:nvSpPr>
        <p:spPr>
          <a:xfrm>
            <a:off x="900000" y="2136600"/>
            <a:ext cx="7488360" cy="19234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. Gosto muito da Régua. É uma cidade sossegada onde costumo passar alguns dias de férias. Aproveito para apreciar os seus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doces conventuai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 dar longos passeios junto ao rio. É com alguma emoção que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vejo os barcos rabelos a enfrentarem este rio estreito e de caudal irregular para levarem o vinho do Porto aos armazéns de Ga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ângulo 2"/>
          <p:cNvGrpSpPr/>
          <p:nvPr/>
        </p:nvGrpSpPr>
        <p:grpSpPr>
          <a:xfrm>
            <a:off x="792000" y="4675320"/>
            <a:ext cx="7650360" cy="1060200"/>
            <a:chOff x="792000" y="4675320"/>
            <a:chExt cx="7650360" cy="1060200"/>
          </a:xfrm>
        </p:grpSpPr>
        <p:pic>
          <p:nvPicPr>
            <p:cNvPr id="91" name="Rectângulo 2" descr=""/>
            <p:cNvPicPr/>
            <p:nvPr/>
          </p:nvPicPr>
          <p:blipFill>
            <a:blip r:embed="rId1"/>
            <a:stretch/>
          </p:blipFill>
          <p:spPr>
            <a:xfrm>
              <a:off x="792000" y="4675320"/>
              <a:ext cx="7650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00000" y="4738680"/>
              <a:ext cx="74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Arial"/>
                </a:rPr>
                <a:t>O texto não confere com a realidade atual. Não há doces conventuais na Régua, e os rabelos já não descem um Douro estreito e de caudal irregular. Isso foi no pass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539640" y="2205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Mecanismos linguísticos que instituem a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continuidad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do sentido entre os diversos elementos da estrutura de superfície textual. Entre esses mecanismos destacam-se as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cadeias de referênci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, as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reiterações e substituições lexicai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(coesão lexical), os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conectores interfrásic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(coesão interfrásica) e a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rdenação correlativa dos tempos verbai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 A unidade semântica do texto é assim assegurada por uma organização formal que permite articular e interligar sequencialmente diverso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1128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são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11280" y="1844640"/>
            <a:ext cx="792144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alibri"/>
              </a:rPr>
              <a:t>Resulta da interacção entre factores macroestruturais e microestruturais existentes no texto, graças à criatividade, ao trabalho oficinal e à </a:t>
            </a:r>
            <a:r>
              <a:rPr b="1" lang="pt-PT" sz="2300" spc="-1" strike="noStrike">
                <a:solidFill>
                  <a:srgbClr val="000000"/>
                </a:solidFill>
                <a:latin typeface="Calibri"/>
              </a:rPr>
              <a:t>intencionalidade do autor </a:t>
            </a:r>
            <a:r>
              <a:rPr b="0" lang="pt-PT" sz="2300" spc="-1" strike="noStrike">
                <a:solidFill>
                  <a:srgbClr val="000000"/>
                </a:solidFill>
                <a:latin typeface="Calibri"/>
              </a:rPr>
              <a:t>e a capacidade interpretativa do receptor/leitor, que tem de cooperar na construção da coerência do texto com a sua competência linguística, a sua o seu conhecimento do mundo, a sua memória literária e cultural e a sua visão hermenêutica. É estreita a interligação entre a coerência textual e a coesão textual, mas com </a:t>
            </a:r>
            <a:r>
              <a:rPr b="1" lang="pt-PT" sz="2300" spc="-1" strike="noStrike">
                <a:solidFill>
                  <a:srgbClr val="000000"/>
                </a:solidFill>
                <a:latin typeface="Calibri"/>
              </a:rPr>
              <a:t>uma diferença relevante</a:t>
            </a:r>
            <a:r>
              <a:rPr b="0" lang="pt-PT" sz="2300" spc="-1" strike="noStrike">
                <a:solidFill>
                  <a:srgbClr val="000000"/>
                </a:solidFill>
                <a:latin typeface="Calibri"/>
              </a:rPr>
              <a:t>: esta última é exclusivamente de âmbito intratextual e não depende da capacidade e das estratégias interpretativas do leitor/ recep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56000" y="620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56000" y="620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ângulo 3"/>
          <p:cNvSpPr/>
          <p:nvPr/>
        </p:nvSpPr>
        <p:spPr>
          <a:xfrm>
            <a:off x="900000" y="4789440"/>
            <a:ext cx="7272360" cy="10087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informação “Já nem parecia a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elha banheir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do pai” é relevante porque fornece informação nova (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elha banheir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substitui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utomóvel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. O leitor deduz que o carro foi repa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ângulo 4"/>
          <p:cNvSpPr/>
          <p:nvPr/>
        </p:nvSpPr>
        <p:spPr>
          <a:xfrm>
            <a:off x="1116000" y="1628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ser coerente, um texto deve respeitar os princípios segui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ângulo 5"/>
          <p:cNvSpPr/>
          <p:nvPr/>
        </p:nvSpPr>
        <p:spPr>
          <a:xfrm>
            <a:off x="900000" y="3060720"/>
            <a:ext cx="7272360" cy="13136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texto, “Os dois irmãos dirigiram-se ao automóvel e ficaram de boca aberta. Novo em folha! Portas, tejadilho, tabliê, puxadores, tudo... Já nem parecia a velha banheira do p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João, de um salto, sentou-se ao vol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6"/>
          <p:cNvSpPr/>
          <p:nvPr/>
        </p:nvSpPr>
        <p:spPr>
          <a:xfrm>
            <a:off x="982800" y="22050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70c0"/>
                </a:solidFill>
                <a:latin typeface="Arial"/>
              </a:rPr>
              <a:t>1. relev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ângulo 1"/>
          <p:cNvSpPr/>
          <p:nvPr/>
        </p:nvSpPr>
        <p:spPr>
          <a:xfrm>
            <a:off x="627120" y="1628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2. Não contra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56000" y="620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ângulo 3"/>
          <p:cNvGrpSpPr/>
          <p:nvPr/>
        </p:nvGrpSpPr>
        <p:grpSpPr>
          <a:xfrm>
            <a:off x="506520" y="2212920"/>
            <a:ext cx="8008920" cy="785880"/>
            <a:chOff x="506520" y="2212920"/>
            <a:chExt cx="8008920" cy="785880"/>
          </a:xfrm>
        </p:grpSpPr>
        <p:pic>
          <p:nvPicPr>
            <p:cNvPr id="54" name="Rectângulo 3" descr=""/>
            <p:cNvPicPr/>
            <p:nvPr/>
          </p:nvPicPr>
          <p:blipFill>
            <a:blip r:embed="rId1"/>
            <a:stretch/>
          </p:blipFill>
          <p:spPr>
            <a:xfrm>
              <a:off x="506520" y="2212920"/>
              <a:ext cx="8008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1280" y="2276640"/>
              <a:ext cx="78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Arial"/>
                </a:rPr>
                <a:t>A informação nova que se vai acrescentando à já conhecida não deve ser contraditória. Assim o texto não progrid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ângulo 4"/>
          <p:cNvSpPr/>
          <p:nvPr/>
        </p:nvSpPr>
        <p:spPr>
          <a:xfrm>
            <a:off x="611280" y="3213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o carro não tinha gasolina, os dois irmãos decidiram ir à estação de serviço mais próxima. O João estava tão entusiasmado com a condução que até ultrapassou os limites de velo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branda! Não vês que assim gastamos mais gasolina? Temos de poupar, dizia o Ped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m efeit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o João não abrandava – o que começou a aborrecer o irm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ângulo 5"/>
          <p:cNvSpPr/>
          <p:nvPr/>
        </p:nvSpPr>
        <p:spPr>
          <a:xfrm>
            <a:off x="611280" y="5157720"/>
            <a:ext cx="7705800" cy="11912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é lógico que o Pedro diga o que disse, nem tão pouco que o carro circule. Afinal, não tinha gaso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onector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m efeit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tb não é adequado, já que se deveria estabelecer uma oposição (Contudo, no entant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2"/>
          <p:cNvSpPr/>
          <p:nvPr/>
        </p:nvSpPr>
        <p:spPr>
          <a:xfrm>
            <a:off x="469080" y="14842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3. A não redund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Rectângulo 3"/>
          <p:cNvGrpSpPr/>
          <p:nvPr/>
        </p:nvGrpSpPr>
        <p:grpSpPr>
          <a:xfrm>
            <a:off x="407880" y="2073240"/>
            <a:ext cx="8107560" cy="566640"/>
            <a:chOff x="407880" y="2073240"/>
            <a:chExt cx="8107560" cy="566640"/>
          </a:xfrm>
        </p:grpSpPr>
        <p:pic>
          <p:nvPicPr>
            <p:cNvPr id="61" name="Rectângulo 3" descr=""/>
            <p:cNvPicPr/>
            <p:nvPr/>
          </p:nvPicPr>
          <p:blipFill>
            <a:blip r:embed="rId1"/>
            <a:stretch/>
          </p:blipFill>
          <p:spPr>
            <a:xfrm>
              <a:off x="407880" y="2073240"/>
              <a:ext cx="81075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39640" y="2133720"/>
              <a:ext cx="792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200" spc="-1" strike="noStrike">
                  <a:solidFill>
                    <a:srgbClr val="ffffff"/>
                  </a:solidFill>
                  <a:latin typeface="Arial"/>
                </a:rPr>
                <a:t>O texto é redundante se repetir a mesma informaçã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ângulo 4"/>
          <p:cNvSpPr/>
          <p:nvPr/>
        </p:nvSpPr>
        <p:spPr>
          <a:xfrm>
            <a:off x="539640" y="2787480"/>
            <a:ext cx="7920000" cy="25628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edro e o João decidiram experimentar o carro renovado do pai (já com o depósito cheio) dando uma volta por Valon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Eu acho que Valongo tem diante de si um futuro promissor devido à sua intensa atividade industrial. Não achas, Ped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laro. Acho até que Valongo tem à sua frente um futuro radioso, porque a sua indústria é muito intensa. Além disso, é justamente a intensidade da sua atividade industrial que faz de Valongo uma cidade cujo futuro terá de ser necessariamente brilhante, para não dizer radioso ou até promi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men, ma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539640" y="5589720"/>
            <a:ext cx="7920000" cy="36828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oão e Pedro repetem a mesm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Rectângulo 2"/>
          <p:cNvGrpSpPr/>
          <p:nvPr/>
        </p:nvGrpSpPr>
        <p:grpSpPr>
          <a:xfrm>
            <a:off x="506520" y="1500120"/>
            <a:ext cx="8008920" cy="530280"/>
            <a:chOff x="506520" y="1500120"/>
            <a:chExt cx="8008920" cy="530280"/>
          </a:xfrm>
        </p:grpSpPr>
        <p:pic>
          <p:nvPicPr>
            <p:cNvPr id="67" name="Rectângulo 2" descr=""/>
            <p:cNvPicPr/>
            <p:nvPr/>
          </p:nvPicPr>
          <p:blipFill>
            <a:blip r:embed="rId1"/>
            <a:stretch/>
          </p:blipFill>
          <p:spPr>
            <a:xfrm>
              <a:off x="506520" y="1500120"/>
              <a:ext cx="8008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1557360"/>
              <a:ext cx="78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Arial"/>
                </a:rPr>
                <a:t>4. A coerência </a:t>
              </a:r>
              <a:r>
                <a:rPr b="0" lang="pt-PT" sz="2000" spc="-1" strike="noStrike">
                  <a:solidFill>
                    <a:srgbClr val="ffffff"/>
                  </a:solidFill>
                  <a:latin typeface="Arial"/>
                </a:rPr>
                <a:t>também</a:t>
              </a:r>
              <a:r>
                <a:rPr b="0" lang="pt-PT" sz="1800" spc="-1" strike="noStrike">
                  <a:solidFill>
                    <a:srgbClr val="ffffff"/>
                  </a:solidFill>
                  <a:latin typeface="Arial"/>
                </a:rPr>
                <a:t> se constrói através de informação não explicitad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ângulo 3"/>
          <p:cNvSpPr/>
          <p:nvPr/>
        </p:nvSpPr>
        <p:spPr>
          <a:xfrm>
            <a:off x="611280" y="2565360"/>
            <a:ext cx="7848360" cy="16185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carreira diplomática d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ça de Queiró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começou com a sua nomeação para A Havana, capital da então colónia espanhola de Cuba e prosseguiu depois em Inglaterra e em Fra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i nesses países qu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autor de 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Os Maia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viria a viver os mais produtivos anos da su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ângulo 4"/>
          <p:cNvSpPr/>
          <p:nvPr/>
        </p:nvSpPr>
        <p:spPr>
          <a:xfrm>
            <a:off x="611280" y="4645080"/>
            <a:ext cx="7848360" cy="1008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ó o conhecimento compartilhado entre texto e leitor permit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feri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que o autor de Os Maias é Eça de Queirós. Só assim se pode estabelecer uma relação entre estes dois parágraf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ângulo 2"/>
          <p:cNvGrpSpPr/>
          <p:nvPr/>
        </p:nvGrpSpPr>
        <p:grpSpPr>
          <a:xfrm>
            <a:off x="268200" y="1487520"/>
            <a:ext cx="8094600" cy="884160"/>
            <a:chOff x="268200" y="1487520"/>
            <a:chExt cx="8094600" cy="884160"/>
          </a:xfrm>
        </p:grpSpPr>
        <p:pic>
          <p:nvPicPr>
            <p:cNvPr id="73" name="Rectângulo 2" descr=""/>
            <p:cNvPicPr/>
            <p:nvPr/>
          </p:nvPicPr>
          <p:blipFill>
            <a:blip r:embed="rId1"/>
            <a:stretch/>
          </p:blipFill>
          <p:spPr>
            <a:xfrm>
              <a:off x="268200" y="1487520"/>
              <a:ext cx="80946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95280" y="1557360"/>
              <a:ext cx="78487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5. A presença de </a:t>
              </a:r>
              <a:r>
                <a:rPr b="1" lang="pt-PT" sz="2100" spc="-1" strike="noStrike">
                  <a:solidFill>
                    <a:srgbClr val="ffffff"/>
                  </a:solidFill>
                  <a:latin typeface="Arial"/>
                </a:rPr>
                <a:t>isotopia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 (rede de repetições lexicais ou semânticas) contribui para dar coerência a um texto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ângulo 3"/>
          <p:cNvSpPr/>
          <p:nvPr/>
        </p:nvSpPr>
        <p:spPr>
          <a:xfrm>
            <a:off x="395280" y="2654280"/>
            <a:ext cx="7848720" cy="28371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Wofganf Amadeus Mozar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nasceu na Áustria no século XVIII e morreu na cidade de Salzburg com pouco mais de 30 anos.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ste talentoso composit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começou ainda criança as suas lides musicais, escrevendo aos 4 anos uma sinfonia. Mais tarde, diversificaria a sua atividade compondo desde óperas até música de câmara, como é exempl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Kleinenachtmusik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A atividad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ste aut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tendeu-se por diversas cortes europeias, o que permitiu que este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énio da músic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udesse dar largas ao seu talento criativo. Protegido por reis e príncipes,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artist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conseguiu, assim, criar livremente das mais belas peças musicais que o mundo conhe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Rectângulo 2"/>
          <p:cNvGrpSpPr/>
          <p:nvPr/>
        </p:nvGrpSpPr>
        <p:grpSpPr>
          <a:xfrm>
            <a:off x="701640" y="1487520"/>
            <a:ext cx="7527960" cy="560520"/>
            <a:chOff x="701640" y="1487520"/>
            <a:chExt cx="7527960" cy="560520"/>
          </a:xfrm>
        </p:grpSpPr>
        <p:pic>
          <p:nvPicPr>
            <p:cNvPr id="78" name="Rectângulo 2" descr=""/>
            <p:cNvPicPr/>
            <p:nvPr/>
          </p:nvPicPr>
          <p:blipFill>
            <a:blip r:embed="rId1"/>
            <a:stretch/>
          </p:blipFill>
          <p:spPr>
            <a:xfrm>
              <a:off x="701640" y="1487520"/>
              <a:ext cx="7527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6920" y="1557360"/>
              <a:ext cx="7345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6. A pontuação contribui para a construção da coerênci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ângulo 3"/>
          <p:cNvSpPr/>
          <p:nvPr/>
        </p:nvSpPr>
        <p:spPr>
          <a:xfrm>
            <a:off x="755640" y="2205000"/>
            <a:ext cx="74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Pontuação errada ou mal colocada altera o sentido do texto, podendo torná-lo incoer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ângulo 5"/>
          <p:cNvSpPr/>
          <p:nvPr/>
        </p:nvSpPr>
        <p:spPr>
          <a:xfrm>
            <a:off x="755640" y="3375000"/>
            <a:ext cx="7416720" cy="73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Essa maçã podes comê-la só. Não quero que deixes as cascas na mesa (errad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ângulo 6"/>
          <p:cNvSpPr/>
          <p:nvPr/>
        </p:nvSpPr>
        <p:spPr>
          <a:xfrm>
            <a:off x="755640" y="4346640"/>
            <a:ext cx="7416720" cy="73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Essa maçã podes comê-la. Só não quero que deixes as cascas na mesa (cer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484360" y="62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erência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Rectângulo 2"/>
          <p:cNvGrpSpPr/>
          <p:nvPr/>
        </p:nvGrpSpPr>
        <p:grpSpPr>
          <a:xfrm>
            <a:off x="560520" y="1487520"/>
            <a:ext cx="7877160" cy="884160"/>
            <a:chOff x="560520" y="1487520"/>
            <a:chExt cx="7877160" cy="884160"/>
          </a:xfrm>
        </p:grpSpPr>
        <p:pic>
          <p:nvPicPr>
            <p:cNvPr id="85" name="Rectângulo 2" descr=""/>
            <p:cNvPicPr/>
            <p:nvPr/>
          </p:nvPicPr>
          <p:blipFill>
            <a:blip r:embed="rId1"/>
            <a:stretch/>
          </p:blipFill>
          <p:spPr>
            <a:xfrm>
              <a:off x="560520" y="1487520"/>
              <a:ext cx="78771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84360" y="1557360"/>
              <a:ext cx="76327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7. O texto articula-se com a situação em que é produzido e Se o não for torna-se incoerent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ângulo 3"/>
          <p:cNvSpPr/>
          <p:nvPr/>
        </p:nvSpPr>
        <p:spPr>
          <a:xfrm>
            <a:off x="684360" y="2500200"/>
            <a:ext cx="7632720" cy="25628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.João e Pedro seguem a grande velocidade pela autoestrada. O primo Manuel acompanha-os no banco traseiro. Pedro aborrece-se com a condução do irm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branda, ou ainda nos espetamos! Tás maluco ou quê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Isto não é nada. Tu é que és um medric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Manuel intervém na conver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Eu acho que o João Magueijo tem razão ao afirmar que a velocidade da luz não é constante, porque não se pode propagar em linha reta. Afinal, a Terra é red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ângulo 4"/>
          <p:cNvSpPr/>
          <p:nvPr/>
        </p:nvSpPr>
        <p:spPr>
          <a:xfrm>
            <a:off x="684360" y="5373720"/>
            <a:ext cx="7632720" cy="642600"/>
          </a:xfrm>
          <a:prstGeom prst="rect">
            <a:avLst/>
          </a:prstGeom>
          <a:noFill/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tervenção do Pedro é inadequada à situação. Supunha-se que a sua intervenção serviria para dirimir o conflito entre os 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7:56:23Z</dcterms:created>
  <dc:creator>Rita Vieira</dc:creator>
  <dc:description/>
  <dc:language>en-US</dc:language>
  <cp:lastModifiedBy>-</cp:lastModifiedBy>
  <dcterms:modified xsi:type="dcterms:W3CDTF">2012-01-26T10:25:06Z</dcterms:modified>
  <cp:revision>11</cp:revision>
  <dc:subject/>
  <dc:title>Texto</dc:title>
</cp:coreProperties>
</file>