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801-CE96-41E4-B967-F306A3A8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D3C-B5C9-474E-9C85-6FA9501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A5D-54EF-4276-9899-3190CDE8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37E-5681-43DB-B896-F253D1DF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4E4-C454-4857-A492-2A46B204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DA0-B0CD-4726-88F6-0DEEBEC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427-9D35-43A1-AA95-5E0A4A51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C55-C5E8-4908-A8C3-B9F3460F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7B8-3B26-4085-B64C-D9239873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9E6-01DA-4B06-AF7D-89EF9AA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62B-28D7-4428-9531-E4F87A0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FF9-EBF8-44D0-8CE3-77E3DA2A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A027-7F7D-4784-ABD5-024CCE184AB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unções sintáticas do 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ificador do nome (restritivo e aposi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3"/>
          <p:cNvSpPr/>
          <p:nvPr/>
        </p:nvSpPr>
        <p:spPr>
          <a:xfrm>
            <a:off x="3785400" y="32446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uel Vi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6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187280" y="2589120"/>
            <a:ext cx="6480360" cy="1557000"/>
          </a:xfrm>
          <a:prstGeom prst="rect">
            <a:avLst/>
          </a:prstGeom>
          <a:noFill/>
          <a:ln w="1260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l como nas funções sintáticas do GV, o complemento do nome é obrigatório. Se não se encontrar junto do nome , a frase fica com sentido incomp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ângulo 8"/>
          <p:cNvSpPr/>
          <p:nvPr/>
        </p:nvSpPr>
        <p:spPr>
          <a:xfrm>
            <a:off x="1187280" y="4676760"/>
            <a:ext cx="6480360" cy="1191240"/>
          </a:xfrm>
          <a:prstGeom prst="rect">
            <a:avLst/>
          </a:prstGeom>
          <a:noFill/>
          <a:ln w="1260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 ser desempenhado por grupos preposicionais (Gprep), grupos adjetivais (Gadv) e or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ângulo 14"/>
          <p:cNvSpPr/>
          <p:nvPr/>
        </p:nvSpPr>
        <p:spPr>
          <a:xfrm>
            <a:off x="1187280" y="155736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1.Complemento do n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ângulo 7"/>
          <p:cNvSpPr/>
          <p:nvPr/>
        </p:nvSpPr>
        <p:spPr>
          <a:xfrm>
            <a:off x="755640" y="1916280"/>
            <a:ext cx="7632720" cy="642600"/>
          </a:xfrm>
          <a:prstGeom prst="rect">
            <a:avLst/>
          </a:prstGeom>
          <a:noFill/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1: A cedênci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as instalaçõ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oi muito importante para a nossa associ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ângulo 8"/>
          <p:cNvSpPr/>
          <p:nvPr/>
        </p:nvSpPr>
        <p:spPr>
          <a:xfrm>
            <a:off x="755640" y="2708280"/>
            <a:ext cx="7632720" cy="642600"/>
          </a:xfrm>
          <a:prstGeom prst="rect">
            <a:avLst/>
          </a:prstGeom>
          <a:noFill/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2: O us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o preservativo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mpede a transmissão de doenças sexualmente transmisssíve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9"/>
          <p:cNvSpPr/>
          <p:nvPr/>
        </p:nvSpPr>
        <p:spPr>
          <a:xfrm>
            <a:off x="755640" y="3500280"/>
            <a:ext cx="7632720" cy="368280"/>
          </a:xfrm>
          <a:prstGeom prst="rect">
            <a:avLst/>
          </a:prstGeom>
          <a:noFill/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1: Os atos médicos não podem ser exercidos por enfermei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0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1"/>
          <p:cNvSpPr/>
          <p:nvPr/>
        </p:nvSpPr>
        <p:spPr>
          <a:xfrm>
            <a:off x="755640" y="4005360"/>
            <a:ext cx="7632720" cy="368280"/>
          </a:xfrm>
          <a:prstGeom prst="rect">
            <a:avLst/>
          </a:prstGeom>
          <a:noFill/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2: A estância turística é muito apreciada no inv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ângulo 12"/>
          <p:cNvSpPr/>
          <p:nvPr/>
        </p:nvSpPr>
        <p:spPr>
          <a:xfrm>
            <a:off x="755640" y="4508640"/>
            <a:ext cx="7632720" cy="368280"/>
          </a:xfrm>
          <a:prstGeom prst="rect">
            <a:avLst/>
          </a:prstGeom>
          <a:noFill/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A sensaçã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 que andamos à deriva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eocupa os portugu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1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ângulo 2"/>
          <p:cNvSpPr/>
          <p:nvPr/>
        </p:nvSpPr>
        <p:spPr>
          <a:xfrm>
            <a:off x="1116000" y="2649600"/>
            <a:ext cx="684072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o contrário do complemento, o modificador é facultativo. E pode sê-lo de duas maneir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ângulo 4"/>
          <p:cNvSpPr/>
          <p:nvPr/>
        </p:nvSpPr>
        <p:spPr>
          <a:xfrm>
            <a:off x="1187280" y="155736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ificador do n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ângulo 5"/>
          <p:cNvSpPr/>
          <p:nvPr/>
        </p:nvSpPr>
        <p:spPr>
          <a:xfrm>
            <a:off x="1116000" y="3441600"/>
            <a:ext cx="6840720" cy="734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) restringindo a referência a um dado universo –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Modificador do nome restritiv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ângulo 6"/>
          <p:cNvSpPr/>
          <p:nvPr/>
        </p:nvSpPr>
        <p:spPr>
          <a:xfrm>
            <a:off x="1116000" y="4305240"/>
            <a:ext cx="6840720" cy="764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) Explicitando essa referência –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Modificador do nome a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7"/>
          <p:cNvSpPr/>
          <p:nvPr/>
        </p:nvSpPr>
        <p:spPr>
          <a:xfrm>
            <a:off x="1116000" y="5229360"/>
            <a:ext cx="684072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modificador do nome restritivo pode ser desempenhado por Gprep, Gadj e o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aixaDeTexto 1"/>
          <p:cNvSpPr/>
          <p:nvPr/>
        </p:nvSpPr>
        <p:spPr>
          <a:xfrm>
            <a:off x="971640" y="2639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. Os livros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 português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ão em cima da estante. (Só esses, os outros estão no chã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2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3"/>
          <p:cNvSpPr/>
          <p:nvPr/>
        </p:nvSpPr>
        <p:spPr>
          <a:xfrm>
            <a:off x="1116000" y="1557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ificador do nome (restritiv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4"/>
          <p:cNvSpPr/>
          <p:nvPr/>
        </p:nvSpPr>
        <p:spPr>
          <a:xfrm>
            <a:off x="971640" y="3359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. As chuvas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tensas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stumam estragar as culturas. (só essas, as outras fazem bem à agricultu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971640" y="4151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. A chuv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e caiu ontem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undou a minha rua. (só essa, a de anteontem nada fe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ângulo 1"/>
          <p:cNvSpPr/>
          <p:nvPr/>
        </p:nvSpPr>
        <p:spPr>
          <a:xfrm>
            <a:off x="1116000" y="1557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ificador do nome (apositivo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2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3"/>
          <p:cNvSpPr/>
          <p:nvPr/>
        </p:nvSpPr>
        <p:spPr>
          <a:xfrm>
            <a:off x="684360" y="2492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modificador de nome apositivo é tipicamente desempenhado por grupos nominais (GN) e tb pode sê-lo por grupos preposicionais (Gprep), grupos adjetivais (Gadj) e o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4"/>
          <p:cNvSpPr/>
          <p:nvPr/>
        </p:nvSpPr>
        <p:spPr>
          <a:xfrm>
            <a:off x="684360" y="3573360"/>
            <a:ext cx="74167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1: D. Afonso Henriques, o conquistador, foi um rei exemp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5"/>
          <p:cNvSpPr/>
          <p:nvPr/>
        </p:nvSpPr>
        <p:spPr>
          <a:xfrm>
            <a:off x="684360" y="4076640"/>
            <a:ext cx="741672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2: Esses livros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 matemática, de francês, de alem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vão para o sótão. (Do conjunto dos livros, só aqueles vão para o sótã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6"/>
          <p:cNvSpPr/>
          <p:nvPr/>
        </p:nvSpPr>
        <p:spPr>
          <a:xfrm>
            <a:off x="684360" y="4869000"/>
            <a:ext cx="7416720" cy="916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3: Este passeio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e todos gostam de da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começa em Leiria e acaba em Porto de Mós. (Do conjunto dos livros, só aqueles vão para o sótã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ixaDeTexto 2"/>
          <p:cNvSpPr/>
          <p:nvPr/>
        </p:nvSpPr>
        <p:spPr>
          <a:xfrm>
            <a:off x="1076040" y="69228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lemento e modificador 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"/>
          <p:cNvSpPr/>
          <p:nvPr/>
        </p:nvSpPr>
        <p:spPr>
          <a:xfrm>
            <a:off x="971640" y="2133720"/>
            <a:ext cx="6840360" cy="11912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em o modificador do nome restritivo nem o modificador do nome apositivo são selecionados pelo nome. O primeiro tem uma função restritiva, o segundo tem uma função explicativa, explicit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971640" y="3573360"/>
            <a:ext cx="6840360" cy="9169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uma construção canónica de frase, o modificador do nome apositivo aparece sempre entre vírgulas. Também pode aparecer em final de f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4"/>
          <p:cNvSpPr/>
          <p:nvPr/>
        </p:nvSpPr>
        <p:spPr>
          <a:xfrm>
            <a:off x="971640" y="4724280"/>
            <a:ext cx="6840360" cy="6426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Gosto muito das façanhas de D. Afonso Henriques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conquis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19:49Z</dcterms:created>
  <dc:creator>Rita Vieira</dc:creator>
  <dc:description/>
  <dc:language>en-US</dc:language>
  <cp:lastModifiedBy>-</cp:lastModifiedBy>
  <dcterms:modified xsi:type="dcterms:W3CDTF">2012-01-26T10:26:56Z</dcterms:modified>
  <cp:revision>10</cp:revision>
  <dc:subject/>
  <dc:title>Funções sintáticas do nome</dc:title>
</cp:coreProperties>
</file>